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29C-BEAA-4905-9184-36F3BA8D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88E-DC46-46B8-BDE4-116F00D1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938-E0B2-4B2B-BBCB-0E5FA5F6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220-1EE4-4952-8B53-778BBD22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22FF-27B2-4127-9454-3BDF3161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4993-83CF-446A-8DCA-9A75EFB5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8A0D-0737-4E9D-9415-698F7060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F814-3D6D-46CB-9E7B-6D8E192F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8269-B52A-4A3E-AFFC-FF220278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6B42-66D9-43AC-8FC4-72B45DF7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6B97-7477-4F6D-B826-B0B7A05B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EEB-4540-4A3B-9418-D00D3C6A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C7C5-1FE1-44E4-A8A2-531C4751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53DD-3B1F-40A8-89DB-04F93DE3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DC70-9C8A-44F0-90C8-9E49B74B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B375-83DB-46EC-8D0A-9ED8880D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06EF-0D44-4F6B-84D6-20ED34E1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6FC-2FDE-4B7D-933D-FE2FD664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43D-5ED9-4C48-89DB-E35E5450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925-C3FC-4791-9FBA-CB87AD3F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81C-FBBA-42D5-9DA5-687A325F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B24-ED3C-4073-A9F4-153E2283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A24-4CF7-4622-A814-EA22E34F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513-F067-4732-92E0-1A4C42F4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4736-C39D-45FF-BC84-649642AFDB6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CAC5-BF89-4568-9A75-346F6A58712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ense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83664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hen we got to the theatre, they </a:t>
            </a:r>
            <a:r>
              <a:rPr b="0" lang="en-US" sz="4800" spc="-1" strike="noStrike">
                <a:solidFill>
                  <a:srgbClr val="da0000"/>
                </a:solidFill>
                <a:latin typeface="Arial Black"/>
              </a:rPr>
              <a:t>had sold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all the ticke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1240" y="3213000"/>
            <a:ext cx="7196400" cy="2702520"/>
            <a:chOff x="471240" y="3213000"/>
            <a:chExt cx="7196400" cy="2702520"/>
          </a:xfrm>
        </p:grpSpPr>
        <p:sp>
          <p:nvSpPr>
            <p:cNvPr id="83" name=""/>
            <p:cNvSpPr/>
            <p:nvPr/>
          </p:nvSpPr>
          <p:spPr>
            <a:xfrm>
              <a:off x="539640" y="4508280"/>
              <a:ext cx="7128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3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2720" y="4147920"/>
              <a:ext cx="0" cy="36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1240" y="4724280"/>
              <a:ext cx="20581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ad sol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48000" y="4724280"/>
              <a:ext cx="2448000" cy="1191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got to the theatr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02520" y="4653000"/>
              <a:ext cx="11455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ow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10960" y="3213000"/>
              <a:ext cx="15523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过去的过去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765000"/>
            <a:ext cx="7653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8.When I got to the cinema, the film____ for five minut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ga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as on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begu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been on sho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522936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620640"/>
            <a:ext cx="8048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9.Class ___ by the time I ____ there, so I took a seat in th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s begun, get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d begun, g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began, go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begins, g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64500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179280"/>
            <a:ext cx="81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0.Helen ___ her key in the office so she had to wait until her husband___ hom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s left, comes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eft, ha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left, came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left, woul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58136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765000"/>
            <a:ext cx="8335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1.The pen which I ___ I  ____ is on my desk, right under my nos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ink, lost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ought, had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think, had lost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thought, have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716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692280"/>
            <a:ext cx="8193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y asked me to have a drink with them. I said that it was at least ten years since I ____ a good drin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068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620640"/>
            <a:ext cx="8408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ow long __ each other before they ___ mar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For about a ye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ve they known;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did they know; we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do they know; a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they known; g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544500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1341360"/>
            <a:ext cx="8085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en Jack arrived he learned Mary ___ for almost an hou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g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t of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lef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aw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013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98100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Did you tell your brother where she ___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Yes, but I didn’t tell him she ___ until next we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A. has gone; w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B. went; d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had been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. had gone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797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83664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is wife ___ to catch the first train but she was too la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ould h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637000"/>
            <a:ext cx="68436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653000"/>
            <a:ext cx="8551800" cy="1191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had hope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意为“原希望”，常用于这一结构的动词有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think, want, plan, suppose, intend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2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916280"/>
            <a:ext cx="78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完成时是一种与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</a:rPr>
              <a:t>过去时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相比较而存在的时态，用以表示“过去的过去”的动作或状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773360"/>
            <a:ext cx="848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.When we _____(arrive) at the theatre, the play ____(already start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365720"/>
            <a:ext cx="575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arrived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had already sta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60480"/>
            <a:ext cx="82645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.The police found that the house ___and a lot of things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s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had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981000"/>
            <a:ext cx="7940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3.Tom didn't go to hear the singer because he___ him.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eard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 hea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heard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he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179280"/>
            <a:ext cx="8353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4.---Why didn't you come to the par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-I___ to come, but one of my friends came to see me just th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wanted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was wan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been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300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333360"/>
            <a:ext cx="7201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5.Sorry,I've eaten up the food. I___ that     he  wouldn't b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ink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hin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d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4724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1840" y="1125360"/>
            <a:ext cx="8085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6.When we got to his home, we learned 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 for almost an hou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nt   B. had gone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been aw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s g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76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476280"/>
            <a:ext cx="876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7.---Did you meet John here at the universi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No, we___ when I started colleg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ve already met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would mee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58972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31:57Z</dcterms:created>
  <dc:creator>Legend User</dc:creator>
  <dc:description/>
  <dc:language>en-US</dc:language>
  <cp:lastModifiedBy>Legend User</cp:lastModifiedBy>
  <dcterms:modified xsi:type="dcterms:W3CDTF">2002-12-10T13:06:31Z</dcterms:modified>
  <cp:revision>18</cp:revision>
  <dc:subject/>
  <dc:title>幻灯片 1</dc:title>
</cp:coreProperties>
</file>